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257-870A-42B4-9E7D-13D75547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0D2-93FA-4EEC-B336-23617A6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7FF-21EA-44F3-8A48-EED20DA0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BF8-7F20-4201-9BD9-A6EFADB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0C9-FD83-42A2-939B-8C675B7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BE4-8949-4B4B-AD31-A44F694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B80-9844-4FE4-A86C-C1FACAA5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ADE-FB0E-4EA2-83F5-91B7AF79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8F6-BE31-4F5E-B969-651C5DEA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D13-D0A6-429F-9B47-F174D9F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A50-2946-4EFE-854B-D683B37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B4A-ABF3-4711-8BE2-6B729B6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0FD6-1459-4A9F-88BE-0CD24A7B6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495252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ience Tool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y: Sidney Los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057400" y="3962520"/>
            <a:ext cx="6019920" cy="177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p wa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62280" y="0"/>
            <a:ext cx="7281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-1619640" y="2762280"/>
            <a:ext cx="5410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mpu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00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1676160" y="2819160"/>
            <a:ext cx="51814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microscop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162240" y="2286000"/>
            <a:ext cx="415296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l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just kidding )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5400000">
            <a:off x="-1733760" y="3181320"/>
            <a:ext cx="5486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li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49528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ed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29680" y="1847880"/>
            <a:ext cx="1714320" cy="501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847880"/>
            <a:ext cx="1714680" cy="5010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309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5400000">
            <a:off x="4495320" y="29718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Spring scal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ffff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8494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371600" y="762120"/>
            <a:ext cx="613404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iple beam blance sca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3581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384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3520" y="2133720"/>
            <a:ext cx="40384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ler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9144000" cy="4529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14600" y="762120"/>
            <a:ext cx="345276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k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00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-2000520" y="299088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9680" y="0"/>
            <a:ext cx="6394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1333440" y="217188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clock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8:58:46Z</dcterms:created>
  <dc:creator>Gina.Losey</dc:creator>
  <dc:description/>
  <dc:language>en-US</dc:language>
  <cp:lastModifiedBy>Gina.Losey</cp:lastModifiedBy>
  <dcterms:modified xsi:type="dcterms:W3CDTF">2010-08-20T14:36:22Z</dcterms:modified>
  <cp:revision>7</cp:revision>
  <dc:subject/>
  <dc:title>Science Tools</dc:title>
</cp:coreProperties>
</file>